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A90-2EFE-4576-A0CD-F042EECD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D01-2CB3-49DA-8778-A66338D8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F2B-B8D3-44BF-BE79-8E32450E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1A9-228F-4F57-839F-39853FEB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C95-A997-4113-945D-FD0D3B27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95A-73BD-4CE8-A439-852DADF5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409-14D2-42A8-8CDC-0475985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AAF-0190-405A-B06D-185FDCE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196-5231-4857-9A1B-732DB667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47D-EC38-43BA-A402-1B3B42A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3E5-BEC0-4DFD-9333-E84AFA2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7FC-C859-485B-8CE1-3C03758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2879-BEDE-4E6B-A435-678D6A9384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264600" y="195120"/>
            <a:ext cx="5711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70c0"/>
                </a:solidFill>
                <a:latin typeface="Arial"/>
                <a:ea typeface="Arial"/>
              </a:rPr>
              <a:t>СООТВЕТСТВИЯ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1042920" y="1203480"/>
            <a:ext cx="720108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7" descr="https://upload.wikimedia.org/wikipedia/commons/thumb/c/ce/Johan_amos_comenius_1592-1671.jpg/1280px-Johan_amos_comenius_1592-1671.jpg"/>
          <p:cNvPicPr/>
          <p:nvPr/>
        </p:nvPicPr>
        <p:blipFill>
          <a:blip r:embed="rId1"/>
          <a:stretch/>
        </p:blipFill>
        <p:spPr>
          <a:xfrm>
            <a:off x="5565600" y="2903400"/>
            <a:ext cx="1886040" cy="213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5" descr="Януш Корчак"/>
          <p:cNvPicPr/>
          <p:nvPr/>
        </p:nvPicPr>
        <p:blipFill>
          <a:blip r:embed="rId2"/>
          <a:srcRect l="26768" t="7905" r="26256" b="20340"/>
          <a:stretch/>
        </p:blipFill>
        <p:spPr>
          <a:xfrm>
            <a:off x="3386160" y="2847960"/>
            <a:ext cx="2122560" cy="216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Лев Николаевич Толстой"/>
          <p:cNvPicPr/>
          <p:nvPr/>
        </p:nvPicPr>
        <p:blipFill>
          <a:blip r:embed="rId3"/>
          <a:stretch/>
        </p:blipFill>
        <p:spPr>
          <a:xfrm>
            <a:off x="5859360" y="766800"/>
            <a:ext cx="2990880" cy="1994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Антон Семёнович Макаренко"/>
          <p:cNvPicPr/>
          <p:nvPr/>
        </p:nvPicPr>
        <p:blipFill>
          <a:blip r:embed="rId4"/>
          <a:srcRect l="26768" t="7905" r="26256" b="20340"/>
          <a:stretch/>
        </p:blipFill>
        <p:spPr>
          <a:xfrm>
            <a:off x="3641760" y="692280"/>
            <a:ext cx="2116080" cy="215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Лев Семенович Выготский"/>
          <p:cNvPicPr/>
          <p:nvPr/>
        </p:nvPicPr>
        <p:blipFill>
          <a:blip r:embed="rId5"/>
          <a:srcRect l="18327" t="0" r="18444" b="0"/>
          <a:stretch/>
        </p:blipFill>
        <p:spPr>
          <a:xfrm>
            <a:off x="7575480" y="2847960"/>
            <a:ext cx="1460520" cy="2146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Лев Семенович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гот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775800" y="120600"/>
            <a:ext cx="75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1. ИСТОРИЯ ПЕДАГОГ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нтон Семенович Макарен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220680" y="343548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Януш Кор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179280" y="41562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Ян Ам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Ко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5321160" y="22068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458200" y="206388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387600" y="436572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688000" y="4432320"/>
            <a:ext cx="365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7559640" y="4491000"/>
            <a:ext cx="3668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ТИФЛОПЕДАГ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154800" y="68400"/>
            <a:ext cx="89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ПЕДАГОГИЧЕСКИЕ СПЕЦИА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ГУВЕРН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СУРД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ОЛИГОФРЕНОПЕДАГ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ЛОГОП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3840" y="1488960"/>
            <a:ext cx="4103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Апостол Андр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714240" y="171360"/>
            <a:ext cx="77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3. БИБЛЕЙСКИЕ МОТИВ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ЧЕНИКИ ИИСУСА ХРИ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2585880" y="213660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Апостол Иоанн Бого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2554200" y="288144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Апостол Пё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2523960" y="3597120"/>
            <a:ext cx="4580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Апостол Ф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1"/>
          <p:cNvSpPr/>
          <p:nvPr/>
        </p:nvSpPr>
        <p:spPr>
          <a:xfrm>
            <a:off x="2585880" y="424980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Апостол Ма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1"/>
          <p:cNvSpPr/>
          <p:nvPr/>
        </p:nvSpPr>
        <p:spPr>
          <a:xfrm>
            <a:off x="217440" y="4230720"/>
            <a:ext cx="4581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5. Мери Поппин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https://img.1tv.com/img/2021-10-04/fmt_96_24_1633527278_1.jpg"/>
          <p:cNvPicPr/>
          <p:nvPr/>
        </p:nvPicPr>
        <p:blipFill>
          <a:blip r:embed="rId1"/>
          <a:srcRect l="6253" t="0" r="15002" b="0"/>
          <a:stretch/>
        </p:blipFill>
        <p:spPr>
          <a:xfrm>
            <a:off x="2968560" y="915840"/>
            <a:ext cx="2590920" cy="1851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i.pinimg.com/736x/fb/eb/2a/fbeb2ad017b9567b62a7ed425c0aeb0a.jpg"/>
          <p:cNvPicPr/>
          <p:nvPr/>
        </p:nvPicPr>
        <p:blipFill>
          <a:blip r:embed="rId2"/>
          <a:stretch/>
        </p:blipFill>
        <p:spPr>
          <a:xfrm>
            <a:off x="5707080" y="765000"/>
            <a:ext cx="1598760" cy="203220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829080" y="114480"/>
            <a:ext cx="73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4. МАССОВАЯ КУЛЬ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https://wiki.briefly.ru/images/b/b9/%D0%90%D0%BB%D1%8C%D0%B1%D1%83%D1%81_%D0%94%D0%B0%D0%BC%D0%B1%D0%BB%D0%B4%D0%BE%D1%80.jpg?20190124152402"/>
          <p:cNvPicPr/>
          <p:nvPr/>
        </p:nvPicPr>
        <p:blipFill>
          <a:blip r:embed="rId3"/>
          <a:stretch/>
        </p:blipFill>
        <p:spPr>
          <a:xfrm>
            <a:off x="7451640" y="771480"/>
            <a:ext cx="1540080" cy="1968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s://irecommend.ru/sites/default/files/imagecache/copyright1/user-images/1654489/m2V6CqRbsAhwQTg484ugQ.jpg"/>
          <p:cNvPicPr/>
          <p:nvPr/>
        </p:nvPicPr>
        <p:blipFill>
          <a:blip r:embed="rId4"/>
          <a:stretch/>
        </p:blipFill>
        <p:spPr>
          <a:xfrm>
            <a:off x="3052800" y="2922480"/>
            <a:ext cx="2548080" cy="200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https://www.kp.ru/putevoditel/serialy/wp-content/uploads/2020/02/star-wars-obi-wan-kenobi-ben-4374-2048x1190.jpg"/>
          <p:cNvPicPr/>
          <p:nvPr/>
        </p:nvPicPr>
        <p:blipFill>
          <a:blip r:embed="rId5"/>
          <a:srcRect l="6214" t="0" r="0" b="0"/>
          <a:stretch/>
        </p:blipFill>
        <p:spPr>
          <a:xfrm>
            <a:off x="5651640" y="2924280"/>
            <a:ext cx="3197160" cy="198108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5707080" y="43387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052800" y="433872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8481960" y="22161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727600" y="230832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2998800" y="2203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1760" y="840960"/>
            <a:ext cx="4581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Оби Ван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ено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19240" y="1746360"/>
            <a:ext cx="4579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2. Сенсей Ир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Уми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220680" y="25891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. Мисс Грей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Грей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19240" y="3422520"/>
            <a:ext cx="45799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4. 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Альбус Дамблд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s://avatars.dzeninfra.ru/get-zen_doc/1336031/pub_5d80b57b86c4a900acdf00de_5d80b8f092414d00aeeefa90/scale_1200"/>
          <p:cNvPicPr/>
          <p:nvPr/>
        </p:nvPicPr>
        <p:blipFill>
          <a:blip r:embed="rId1"/>
          <a:stretch/>
        </p:blipFill>
        <p:spPr>
          <a:xfrm>
            <a:off x="5880240" y="2967120"/>
            <a:ext cx="2720880" cy="203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s://images.golos.io/DQmSZEdEwa1bJABqqV6cBmV9wkdcF1QWdbNvgNyPBa7zVdf/2019-06-10%2014-10-22.JPG"/>
          <p:cNvPicPr/>
          <p:nvPr/>
        </p:nvPicPr>
        <p:blipFill>
          <a:blip r:embed="rId2"/>
          <a:stretch/>
        </p:blipFill>
        <p:spPr>
          <a:xfrm>
            <a:off x="227160" y="3076560"/>
            <a:ext cx="4271760" cy="203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1043280" y="114480"/>
            <a:ext cx="692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БЛОК 5. ЗАЧЕМ ЭТО НУЖ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880240" y="4476600"/>
            <a:ext cx="48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06280" y="4587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s://proza.ru/pics/2018/02/04/2065.jpg"/>
          <p:cNvPicPr/>
          <p:nvPr/>
        </p:nvPicPr>
        <p:blipFill>
          <a:blip r:embed="rId3"/>
          <a:stretch/>
        </p:blipFill>
        <p:spPr>
          <a:xfrm>
            <a:off x="533520" y="760320"/>
            <a:ext cx="2104920" cy="210204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549360" y="235584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https://avatars.mds.yandex.net/get-mpic/4615588/img_id3425990097656984869.jpeg/orig"/>
          <p:cNvPicPr/>
          <p:nvPr/>
        </p:nvPicPr>
        <p:blipFill>
          <a:blip r:embed="rId4"/>
          <a:stretch/>
        </p:blipFill>
        <p:spPr>
          <a:xfrm>
            <a:off x="3132000" y="738360"/>
            <a:ext cx="2151360" cy="2195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987640" y="2338560"/>
            <a:ext cx="48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https://ic.pics.livejournal.com/nelidova_ng/83946200/183305/183305_original.jpg"/>
          <p:cNvPicPr/>
          <p:nvPr/>
        </p:nvPicPr>
        <p:blipFill>
          <a:blip r:embed="rId5"/>
          <a:stretch/>
        </p:blipFill>
        <p:spPr>
          <a:xfrm>
            <a:off x="5707080" y="803160"/>
            <a:ext cx="3067200" cy="2046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8209080" y="2338560"/>
            <a:ext cx="488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20:07:34Z</dcterms:modified>
  <cp:revision>141</cp:revision>
  <dc:subject/>
  <dc:title>Слайд 1</dc:title>
</cp:coreProperties>
</file>