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C02-1DFC-45C6-AE30-1D9D165D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F80-0176-4540-9FFF-A59BF7BE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321-D1F9-4D6B-A91C-358822F0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4317-FC44-45EF-B8D5-8FEDE884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163B-75CE-4846-BE8F-37EA2105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2DD-1672-4463-880D-C98259DA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143-098B-4370-AD62-A97EA142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3C0-EE36-46EE-B9A6-44B61550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700-E4CE-4B32-AC30-44412340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6DF-2637-4D2E-9EE4-2AE2E1AA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51A-7AFA-42AB-9BF7-E0E6ABC5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1E4-7114-48BE-9C21-8CF774AD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332F-98AE-4A0D-890F-BFDE9B167A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04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Что? Где? Ког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s://psv4.userapi.com/c235031/u8334488/docs/d43/7df4ca68b4f8/Viktorina_Podvig_uchitelstva.jpg?extra=bOkdtXJ2xlQItq9bFi0gNSxfKhOhIvlRwiX6q5_HW-yrIuyqJOyfNsdtw4pF4Hv0O-fBDFV9-vWSLLWJeYX9Qb89eB9FjiQOEAR52tMi4vWzuQGr3ni159hxwr32cqf6JeUn9bEjIjU-l6xeGMZ4"/>
          <p:cNvPicPr/>
          <p:nvPr/>
        </p:nvPicPr>
        <p:blipFill>
          <a:blip r:embed="rId1"/>
          <a:stretch/>
        </p:blipFill>
        <p:spPr>
          <a:xfrm>
            <a:off x="755640" y="987480"/>
            <a:ext cx="77709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наменитый педагог XVII века Ян Амос Коменский был первым, кто, идя в ногу с техническим прогрессом, стал использовать это в учебниках, причем по всем предметам, ибо это, по его — совершенно обоснованному — мнению, сильно облегчает усвоение и понимание любого учебного материала. А позже использование этого и вовсе вошло в историю как «золотое правило дидактики». О чем идет речь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8000" y="987480"/>
            <a:ext cx="89280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ый педагог  А.С. Макаренко описывает историю одного сердобольного мальчика. Он очень переживал за свою игрушку, потому что ему казалось, что она никогда не может уснуть. Заботясь о ее здоровье, мальчик периодически клал ей на голову тяжелые предметы. Назовите, что это за игруш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силий Жуковский сравнивал воспитание детей с написанием поэтического произведения. Такое произведение он называл сочетанием из двух слов, начинающихся на одну и ту же букву. Напишите это словосочетание, ставшее в тридцатых годах двадцатого века названием знаменитой книги по педагоги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ревнем Риме — учитель, обучающий детей азам языкознания — грамматик, учитель чтения — литератор, раб, сопровождающий детей в школу и из школы — педагог. А как в Древнем Риме называли учителя арифмети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ередине 70-х молодой советский учитель позволил себе вольность в своем внешнем виде. Точнее  - отрастил бородку.  В результате чего заслужил выговор от начальства. «На кого ты равняешься! — кричал директор. — На аполитичных стиляг?». «Нет, на него», — невозмутимо ответил учитель и указал на портрет, висящий на стене. Чей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несколько столетий назад появился танец «вальс», многие заметили, что он был гораздо проще популярных тогда танцев, т.к. состоял из очень простых и легко запоминающихся движений. Новый танец стали осуждать не только по моральным соображениям. Первыми, кто выступили против, стали, как ни странно, учителя танцев. Почем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8576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вестно, что пророка Моисея иудеи именуют Моше Рабейну, то есть Учитель, Наставник. А юморист Михаил Векслер выразил это в афоризме: «Моисей — всем евреям ...!». Закончите этот афоризм одним иностранным, но далеким от Израиля, словом, синонимом слова «учитель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8576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ставители особой субкультуры хиппи или стиляг, распространённой в советское время, любили переделывать привычные нам имена и фамилии на иностранный манер. Так, например, Анна могла стать Энн, а Борис – Боб. Кроме того, они стали называть фамилии известных людей – а именно, Владимира Ильина Ленина и педагога Антона Семеновича Макаренко – фамилиями двух чрезвычайно известных в то время англичан. Нам неизвестно, встречались ли когда-то Макаренко и Ленин. Чего нельзя сказать об этих англичанах, ведь они вместе играли в одной популярной группе. Назовите эту групп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640" y="987480"/>
            <a:ext cx="532764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д вами изображение купюры в тысячу итальянских лир, на которой находится ребенок. На обратной стороне данной купюры изображена женщина, выдающийся педагог, единственная женщина, включенная в 1988 году ЮНЕСКО в список из четырех человек, определивших способы педагогического мышления в XX веке. В соответствии с её принципом, в центре педагогической системы, как и на изображении купюры, находится ребенок. Назовите фамилию женщ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5292720" y="1779480"/>
            <a:ext cx="37148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8000" y="987480"/>
            <a:ext cx="8928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прос состоит из двух истор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В заставке американского мультсериала «Симпсоны» демонстрируется очень популярное в западных школах наказание – а именно написание оной и той же фразы на доске много раз, чтобы лучше ее запомнит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Бянг — это блюдо из лапши, подаваемое в китайской провинции Шэньси. _______ Бянг состоит из 56 компонентов и считается одним из самых сложных, поэтому педагог Ванг СижУн использовал его для наказ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няв, как связаны эти две истории, напишите, какое слово мы пропустили в предыдущем предложении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ALFA</cp:lastModifiedBy>
  <dcterms:modified xsi:type="dcterms:W3CDTF">2023-01-25T18:18:37Z</dcterms:modified>
  <cp:revision>135</cp:revision>
  <dc:subject/>
  <dc:title>Слайд 1</dc:title>
</cp:coreProperties>
</file>