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783-E2E8-46B0-8F81-2BDA2639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ED4-F42E-4107-A952-E06EB513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5F3-4590-482C-A90A-45C3FB13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FE3-7CBB-4C4E-99CD-1B194CAB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2F0-F274-4CF6-962D-7B9C0B8F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AF1-FA60-4802-900A-F9A699A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E2E-371A-44AC-9F5E-6506923C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EA4-E0B1-48FC-AD62-9522BC3A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23A-699B-44A9-A5EA-24A8E555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B78-F6B4-44B2-B734-86383F81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7E5-11B8-405F-B6F1-70B0614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C81-DF8D-44ED-B5E9-C437CBCA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910B-8219-4EBE-9079-8F4A41874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9280" y="339840"/>
            <a:ext cx="885060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7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8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89" name="TextBox 1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39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09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1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Р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" descr="https://skyteach.ru/wp-content/uploads/2017/10/%D0%9D%D0%B8%D0%BA%D0%BE%D0%BB%D0%B0%D0%B9-%D0%91%D0%BE%D0%B3%D0%B4%D0%B0%D0%BD%D0%BE%D0%B2-%D0%91%D0%B5%D0%BB%D1%8C%D1%81%D0%BA%D0%B8%D0%B9.-%D0%A3%D1%81%D1%82%D0%BD%D1%8B%D0%B9-%D1%81%D1%87%D1%91%D1%82.-%D0%92-%D0%BD%D0%B0%D1%80%D0%BE%D0%B4%D0%BD%D0%BE%D0%B9-%D1%88%D0%BA%D0%BE%D0%BB%D0%B5-%D0%A1.-%D0%90.-%D0%A0%D0%B0%D1%87%D0%B8%D0%BD%D1%81%D0%BA%D0%BE%D0%B3%D0%BE.jpg"/>
          <p:cNvPicPr/>
          <p:nvPr/>
        </p:nvPicPr>
        <p:blipFill>
          <a:blip r:embed="rId1"/>
          <a:stretch/>
        </p:blipFill>
        <p:spPr>
          <a:xfrm>
            <a:off x="2340000" y="200160"/>
            <a:ext cx="3375000" cy="47354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5937120" y="1360440"/>
            <a:ext cx="29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ный счё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одн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е…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9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2" name="Прямоугольник 10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1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142920" y="106200"/>
            <a:ext cx="2017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2" name="Прямоугольник 8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153360" y="108000"/>
            <a:ext cx="2015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https://cdn1.ozone.ru/s3/multimedia-0/6279999036.jpg"/>
          <p:cNvPicPr/>
          <p:nvPr/>
        </p:nvPicPr>
        <p:blipFill>
          <a:blip r:embed="rId1"/>
          <a:stretch/>
        </p:blipFill>
        <p:spPr>
          <a:xfrm>
            <a:off x="3348000" y="108000"/>
            <a:ext cx="3311640" cy="4968720"/>
          </a:xfrm>
          <a:prstGeom prst="rect">
            <a:avLst/>
          </a:prstGeom>
          <a:ln w="0">
            <a:noFill/>
          </a:ln>
        </p:spPr>
      </p:pic>
      <p:sp>
        <p:nvSpPr>
          <p:cNvPr id="477" name="Прямоугольник 1"/>
          <p:cNvSpPr/>
          <p:nvPr/>
        </p:nvSpPr>
        <p:spPr>
          <a:xfrm>
            <a:off x="3924360" y="1276200"/>
            <a:ext cx="2303280" cy="1582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9"/>
          <p:cNvSpPr/>
          <p:nvPr/>
        </p:nvSpPr>
        <p:spPr>
          <a:xfrm>
            <a:off x="6809400" y="1684440"/>
            <a:ext cx="2047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Стрелка вниз 1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8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49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5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09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3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17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0" descr="https://sun9-65.userapi.com/impg/g60o2gptU4wPhw7Y62Xp-yq7LzXe7nDWN-Xv2A/5qrKYqqbITc.jpg?size=900x600&amp;quality=96&amp;sign=cdd262c8b1378f68d74f21bc0172ad19&amp;type=album"/>
          <p:cNvPicPr/>
          <p:nvPr/>
        </p:nvPicPr>
        <p:blipFill>
          <a:blip r:embed="rId1"/>
          <a:stretch/>
        </p:blipFill>
        <p:spPr>
          <a:xfrm>
            <a:off x="2340000" y="411120"/>
            <a:ext cx="6588000" cy="4392720"/>
          </a:xfrm>
          <a:prstGeom prst="rect">
            <a:avLst/>
          </a:prstGeom>
          <a:ln w="0">
            <a:noFill/>
          </a:ln>
        </p:spPr>
      </p:pic>
      <p:sp>
        <p:nvSpPr>
          <p:cNvPr id="521" name="Стрелка вниз 6"/>
          <p:cNvSpPr/>
          <p:nvPr/>
        </p:nvSpPr>
        <p:spPr>
          <a:xfrm rot="19526400">
            <a:off x="3122640" y="196560"/>
            <a:ext cx="647640" cy="14382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4"/>
          <p:cNvSpPr/>
          <p:nvPr/>
        </p:nvSpPr>
        <p:spPr>
          <a:xfrm>
            <a:off x="151920" y="106200"/>
            <a:ext cx="179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https://i.pinimg.com/originals/0b/f4/56/0bf45676fd04ed3e215ea665f5cc7107.jpg"/>
          <p:cNvPicPr/>
          <p:nvPr/>
        </p:nvPicPr>
        <p:blipFill>
          <a:blip r:embed="rId1"/>
          <a:stretch/>
        </p:blipFill>
        <p:spPr>
          <a:xfrm>
            <a:off x="2568600" y="106200"/>
            <a:ext cx="445140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556000" y="136440"/>
            <a:ext cx="5329080" cy="480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1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2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86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0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153000" y="106200"/>
            <a:ext cx="1873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2" descr="https://static.mk.ru/upload/entities/2021/08/03/19/articles/facebookPicture/50/6e/78/72/1063a8dc37cf0721516faa82388fcfed.jpg"/>
          <p:cNvPicPr/>
          <p:nvPr/>
        </p:nvPicPr>
        <p:blipFill>
          <a:blip r:embed="rId1"/>
          <a:srcRect l="9099" t="0" r="17002" b="0"/>
          <a:stretch/>
        </p:blipFill>
        <p:spPr>
          <a:xfrm>
            <a:off x="2057400" y="136440"/>
            <a:ext cx="5329080" cy="480708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6"/>
          <p:cNvSpPr/>
          <p:nvPr/>
        </p:nvSpPr>
        <p:spPr>
          <a:xfrm>
            <a:off x="5651640" y="4084560"/>
            <a:ext cx="3384360" cy="916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профессор по классу композиции в Московской консерв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5"/>
          <p:cNvSpPr/>
          <p:nvPr/>
        </p:nvSpPr>
        <p:spPr>
          <a:xfrm>
            <a:off x="1253160" y="320760"/>
            <a:ext cx="675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МЕДИА - АЛФАВИ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24160" y="1531800"/>
            <a:ext cx="6419520" cy="32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153000" y="106200"/>
            <a:ext cx="18752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https://avatars.dzeninfra.ru/get-zen_doc/3531468/pub_5f5f504c354535081e5c9221_5f5f5cdc354535081e722981/scale_1200"/>
          <p:cNvPicPr/>
          <p:nvPr/>
        </p:nvPicPr>
        <p:blipFill>
          <a:blip r:embed="rId1"/>
          <a:stretch/>
        </p:blipFill>
        <p:spPr>
          <a:xfrm>
            <a:off x="2038320" y="214200"/>
            <a:ext cx="68850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55520" y="-1080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0480" y="106200"/>
            <a:ext cx="127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Г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ttps://i.pinimg.com/originals/1e/3d/62/1e3d62973b2f300257fdec7180dab3fa.jpg"/>
          <p:cNvPicPr/>
          <p:nvPr/>
        </p:nvPicPr>
        <p:blipFill>
          <a:blip r:embed="rId1"/>
          <a:stretch/>
        </p:blipFill>
        <p:spPr>
          <a:xfrm>
            <a:off x="3203640" y="95400"/>
            <a:ext cx="410508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142920" y="106200"/>
            <a:ext cx="2000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51560" y="106200"/>
            <a:ext cx="181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https://rgnp.ru/wp-content/uploads/9/3/9/9395b3f69bcc07db6326ea1fee7b1a72.jpeg"/>
          <p:cNvPicPr/>
          <p:nvPr/>
        </p:nvPicPr>
        <p:blipFill>
          <a:blip r:embed="rId1"/>
          <a:srcRect l="31488" t="22589" r="25809" b="6822"/>
          <a:stretch/>
        </p:blipFill>
        <p:spPr>
          <a:xfrm>
            <a:off x="3132000" y="111240"/>
            <a:ext cx="3961080" cy="490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"/>
          <p:cNvSpPr/>
          <p:nvPr/>
        </p:nvSpPr>
        <p:spPr>
          <a:xfrm>
            <a:off x="154440" y="106200"/>
            <a:ext cx="2215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cbs.torzhok.tverlib.ru/sites/default/files/ris.jpg"/>
          <p:cNvPicPr/>
          <p:nvPr/>
        </p:nvPicPr>
        <p:blipFill>
          <a:blip r:embed="rId1"/>
          <a:srcRect l="3961" t="11093" r="52364" b="15697"/>
          <a:stretch/>
        </p:blipFill>
        <p:spPr>
          <a:xfrm>
            <a:off x="3132000" y="106200"/>
            <a:ext cx="3802320" cy="48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51920" y="106200"/>
            <a:ext cx="1559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https://mirfaces.com/wp-content/uploads/2017/12/Gorgeous-Janusz-Korczak.jpg"/>
          <p:cNvPicPr/>
          <p:nvPr/>
        </p:nvPicPr>
        <p:blipFill>
          <a:blip r:embed="rId1"/>
          <a:stretch/>
        </p:blipFill>
        <p:spPr>
          <a:xfrm>
            <a:off x="3276720" y="173160"/>
            <a:ext cx="365904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152280" y="106200"/>
            <a:ext cx="173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Л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0" descr="https://cdn.culture.ru/images/fb12dabd-2e3e-508c-863b-cbecf5b11649"/>
          <p:cNvPicPr/>
          <p:nvPr/>
        </p:nvPicPr>
        <p:blipFill>
          <a:blip r:embed="rId1"/>
          <a:stretch/>
        </p:blipFill>
        <p:spPr>
          <a:xfrm>
            <a:off x="2916360" y="212760"/>
            <a:ext cx="3816360" cy="47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4"/>
          <p:cNvSpPr/>
          <p:nvPr/>
        </p:nvSpPr>
        <p:spPr>
          <a:xfrm>
            <a:off x="155520" y="106200"/>
            <a:ext cx="23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Calibri"/>
              </a:rPr>
              <a:t>М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9" descr="https://naurok-test2.nyc3.digitaloceanspaces.com/uploads/test/1710081/1388517/116807_1648803389.png"/>
          <p:cNvPicPr/>
          <p:nvPr/>
        </p:nvPicPr>
        <p:blipFill>
          <a:blip r:embed="rId1"/>
          <a:stretch/>
        </p:blipFill>
        <p:spPr>
          <a:xfrm>
            <a:off x="3348000" y="192240"/>
            <a:ext cx="359892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51200" y="106200"/>
            <a:ext cx="165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00"/>
                </a:solidFill>
                <a:latin typeface="Calibri"/>
              </a:rPr>
              <a:t>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s://i.postimg.cc/xd6q0d9z/2008-2021-60-80-2048x1536.jpg?from=https://i.postimg.cc/xd6q0d9z/2008-2021-60-80-2048x1536.jpg"/>
          <p:cNvPicPr/>
          <p:nvPr/>
        </p:nvPicPr>
        <p:blipFill>
          <a:blip r:embed="rId1"/>
          <a:stretch/>
        </p:blipFill>
        <p:spPr>
          <a:xfrm>
            <a:off x="2287440" y="212760"/>
            <a:ext cx="6316920" cy="47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153720" y="106200"/>
            <a:ext cx="21574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9" descr="https://s0.slide-share.ru/s_slide/f15308468c9551256997f6e0039e31ab/37ceb96e-6eb6-429a-b1e0-9ec162eb2c15.jpeg"/>
          <p:cNvPicPr/>
          <p:nvPr/>
        </p:nvPicPr>
        <p:blipFill>
          <a:blip r:embed="rId1"/>
          <a:srcRect l="1665" t="10730" r="50004" b="8094"/>
          <a:stretch/>
        </p:blipFill>
        <p:spPr>
          <a:xfrm>
            <a:off x="3203640" y="109440"/>
            <a:ext cx="3956040" cy="49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36" name="Прямоугольник 6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15408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3"/>
          <p:cNvSpPr/>
          <p:nvPr/>
        </p:nvSpPr>
        <p:spPr>
          <a:xfrm>
            <a:off x="500040" y="3697200"/>
            <a:ext cx="150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158040" y="106200"/>
            <a:ext cx="2006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https://g.pggcdn.net/product/1634569656521627763/9785171104597.jpg"/>
          <p:cNvPicPr/>
          <p:nvPr/>
        </p:nvPicPr>
        <p:blipFill>
          <a:blip r:embed="rId1"/>
          <a:stretch/>
        </p:blipFill>
        <p:spPr>
          <a:xfrm>
            <a:off x="2340000" y="112680"/>
            <a:ext cx="3149640" cy="492768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4"/>
          <p:cNvSpPr/>
          <p:nvPr/>
        </p:nvSpPr>
        <p:spPr>
          <a:xfrm>
            <a:off x="2484360" y="4040280"/>
            <a:ext cx="3005280" cy="57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5571360" y="169056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ное наз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9:07:49Z</dcterms:created>
  <dc:creator>zerkalo</dc:creator>
  <dc:description/>
  <dc:language>en-US</dc:language>
  <cp:lastModifiedBy>Савина Дарья Александровна</cp:lastModifiedBy>
  <dcterms:modified xsi:type="dcterms:W3CDTF">2023-01-24T15:29:37Z</dcterms:modified>
  <cp:revision>126</cp:revision>
  <dc:subject/>
  <dc:title>Слайд 1</dc:title>
</cp:coreProperties>
</file>